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C19B-35FE-49D7-8666-C3C757171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96BA-5232-463F-881D-31CA32992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2B73-5090-4222-A62F-6DE2D6CCA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CF89-D99C-4EF8-9DAB-9A701D46E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4BE2-4A21-4433-8CD1-B610340B2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62B8-6664-45A3-8E2F-C50BB3316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24D1-9220-44B1-9FA9-3AAC9EDFD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9250-17F9-42BF-A2F9-BBF006E3A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76B0-9069-455F-94ED-B154253EE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6C82-7A3B-43FC-8740-8D9AEDB41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0C14-B992-466A-8B30-C1A42C9A1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E64B-7CC4-47B5-A442-8BA28912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1" marL="653760" indent="-251280">
              <a:spcBef>
                <a:spcPts val="901"/>
              </a:spcBef>
              <a:buClr>
                <a:srgbClr val="99ff99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2" marL="1005840" indent="-200880">
              <a:spcBef>
                <a:spcPts val="901"/>
              </a:spcBef>
              <a:buClr>
                <a:srgbClr val="99ff99"/>
              </a:buClr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3" marL="1407960" indent="-200880">
              <a:spcBef>
                <a:spcPts val="901"/>
              </a:spcBef>
              <a:buClr>
                <a:srgbClr val="99ff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4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5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lvl="6" marL="1810440" indent="-200880">
              <a:spcBef>
                <a:spcPts val="901"/>
              </a:spcBef>
              <a:buClr>
                <a:srgbClr val="99ff99"/>
              </a:buClr>
              <a:buFont typeface="Tahoma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99ff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scox@umas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FA4-D84A-469C-9931-4ABD6B4FF208}" type="slidenum">
              <a:rPr b="0" lang="en-US" sz="1400" spc="-1" strike="noStrike">
                <a:solidFill>
                  <a:srgbClr val="99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20" y="5181480"/>
            <a:ext cx="125748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A Ninth Grade Course in Science and Technology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65724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cott A. Cox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Upper Merion Area High Schoo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King of Prussia, PA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…</a:t>
            </a: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Not “Science &amp; Society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tudents are expected to master a comprehensive set of scientific principle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ocial implications are discussed only after the science is understood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… </a:t>
            </a: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Not “Physical Science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he organizational scheme is “technical” not “academic”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Despite substantial overlap, many topics are not addressed in physical science text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Future Development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Refinement and expansion of text resourc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Development of internet gateway 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omic Sans MS"/>
              </a:rPr>
              <a:t>(http://scitechcourse.wikispaces.com)</a:t>
            </a:r>
            <a:endParaRPr b="0" lang="en-US" sz="28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Organization of teachers manual of resourc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Wikispac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work for the benefit of readers.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are free content that many people can edit. 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ikis works by building consensus. 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(These statements are modifications of three of Wikipedia’s Five Pillars.)</a:t>
            </a:r>
            <a:endParaRPr b="0" lang="en-US" sz="32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quireD"/>
              </a:rPr>
              <a:t>Wikis In Action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Contribute Idea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Discuss Before Deleting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Organize Without Purging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ahoma"/>
              </a:rPr>
              <a:t>Be Nice. Turn the Other Cheek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64832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"We live in a society exquisitely dependent on technology, in which hardly anyone knows anything about science and technology.  This is a clear prescription for disaster."</a:t>
            </a:r>
            <a:endParaRPr b="0" lang="en-US" sz="36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1640" y="5409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--Carl Sagan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Evolution of The Course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Began as a third-year course for non-college-bound student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Became a replacement for ninth grade Physical Scienc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Now offered at all academic levels from Honors to Remedial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A Radical Restructuring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tent is organized around areas of technology…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not scientific disciplines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All units incorporate chemistry, physics, earth/space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urriculum Prioriti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corporate Life Experienc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tegrate Scientific Disciplin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romote Career Awarenes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each Science of Social Issue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urriculum Prioriti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nect to Popular Media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romote Independent Research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Answer Common Question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compass State Standard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Course Curriculum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ergy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Information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Space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Environment and Technology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Key Differences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Media-Friendly” Topic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Just-in-Time” Knowledge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Contextual” Learning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Thematic Reinforcement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Jumping-Off” Points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260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It is Not “Physics First”</a:t>
            </a:r>
            <a:endParaRPr b="0" lang="en-US" sz="4800" spc="-1" strike="noStrike">
              <a:solidFill>
                <a:srgbClr val="ffff66"/>
              </a:solidFill>
              <a:latin typeface="Squir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Physics content is introduced, but not systematically or exhaustively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Comic Sans MS"/>
              </a:rPr>
              <a:t>Many topics of chemistry and biology are also required.</a:t>
            </a:r>
            <a:endParaRPr b="0" lang="en-US" sz="3600" spc="-1" strike="noStrike">
              <a:solidFill>
                <a:srgbClr val="99ff99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7:01:28Z</dcterms:created>
  <dc:creator>Scott A. Cox</dc:creator>
  <dc:description/>
  <dc:language>en-US</dc:language>
  <cp:lastModifiedBy>Scott A. Cox</cp:lastModifiedBy>
  <dcterms:modified xsi:type="dcterms:W3CDTF">2007-10-25T20:23:40Z</dcterms:modified>
  <cp:revision>15</cp:revision>
  <dc:subject/>
  <dc:title>A Ninth Grade Course in Science and Technology</dc:title>
</cp:coreProperties>
</file>